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2834-7B16-4E26-AE0D-9F007531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09A9-B823-43C4-9A33-0AEEF964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A56695-66D2-41EF-93BD-6E362034B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86986E-80C3-476C-A32B-9F6242C4E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881E11-2FE7-46C5-B369-55B3BE9C4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383740-0F13-427D-AA22-DD48482D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9E8D9A-3BCD-4895-832D-F81E34DAF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BCB2E9-2F84-4423-AF38-D6E648DA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F93AF9-6E38-4901-A1B2-10A2D6AD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C0CA33-0265-4940-9B1E-2AC61D392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C7C8C5-27A7-4014-B1F9-ABFD8A664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0F5EC1-0008-47D1-A503-887D58974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7312-CD70-47D5-B729-003D9FED9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E76DA2-334E-4165-BBB4-EA602154E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6BCE0C-87E3-44F7-9B4E-1AD010C11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1B3F1A-C5CC-4C73-9FDB-4B670F239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D518FB9-CAB3-4EE5-ACF5-925E570E2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ECAAA6-2DB4-40CF-9B43-061391CC8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D5A5CA-D52B-46BC-BD15-722E5606F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27664B-1D6B-4981-9F43-9B10EC0D2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389500-61FA-40D1-8E8B-7722CA571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09430D-1BA7-4174-9841-B7D18FEE8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F314CF-FCCE-40A9-A62A-09232E7EC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7A87-2B7B-41DF-BC23-688E9BE0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AAC6A4-1AAB-4E75-9A98-7F08B7431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84251A-DC30-4ECA-9D0E-83D3383EF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52919F-7DEA-423B-B9F0-19D16966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DEEDE0-CB7E-44B7-AA45-AC8803660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49A9AC-5614-4769-B580-6CC763CBB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73F938-CDA0-451B-B526-58841A396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D8FE31-2BDC-4872-8463-200F830AA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31107E-5A4C-4CCB-8115-21E14D40D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7ABE38-D6EC-4D84-925B-1E8388B1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1323E4-8BCB-4FDE-813B-DC3844399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1FB7A-DF47-405C-918A-FE902EA70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75378-E19A-4976-9D5E-24FB9E9E2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04C793-C650-40F0-B42E-2FD7EEDE2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5E9A2-0834-4E93-AA1E-F3CA3D644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0E814BB-9AB9-4710-BC67-2C111E424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0E03E2-609D-4F0C-901E-80661C89C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FFBC3A-230E-4D35-B9BE-6F16F4ADA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62686-BBBE-4019-AEDE-8A0C1552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252116-C613-4E72-9F8B-7E342CAC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498BBA-E027-426B-B50E-4D636BAB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BA3C18-78D4-4914-9DE8-DDF6F8AB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C08F-6D95-4AD1-BF1B-E5DE9E9F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0AA96E-528E-4E4F-A096-94BE1E3B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0DEA0C-9005-46E8-8009-500CF779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29AA57-1563-43BB-8380-4CA3B509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909FC-8A4B-4DCF-86B5-9082CDE2F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EB0C5E-9AB8-4BC0-B9D2-2C0FA6410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27AE38-8385-46C3-99AB-F46ED71F4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C68DD8-CBD9-4795-B86B-2428470C3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B1AC76-D725-41DE-942D-47DA82563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C8F2CC-BB90-427A-8045-DC0B29741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853750-8344-40E7-9D29-C6A22428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39C5E-75CD-4A70-B65E-46842B37C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E620CC-614A-41E9-8CB4-3483FD4BA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4A2DA7-01FC-47AA-936F-133B92793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54C117-2606-4294-BFED-80803AF3C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12B268-2F06-415A-A2BA-F38C784A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F30732-AB21-4E46-B4F2-238653161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0908DB-0312-466B-93E1-7EB8075DD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BB90ED-70B7-476C-983D-2CD1FA8A4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D60CF4-B3C4-4BBA-B590-E56C1F4F4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2A94E0-31E0-47E8-8237-14A4ED21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1465B8-9A28-4774-AEEA-E160D763F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7C556-B3B3-4DBF-BA16-A0F54610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D33B14F-FCAA-49F9-80E1-438420194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9106BE8-A01A-47AD-A485-583B88841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DB5AD6-DAF5-4C27-9A77-F32740B29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91985E4-51EA-420E-B693-B5443BD57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0D7A6B-E71E-46AB-9BC0-416ED335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621A28-B96A-43EB-A56E-8EC2B783D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47B5EE4-8084-4DD9-875A-C7D727FF2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DA0765-3EA7-4B1D-A078-55722C25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B71166-4B1A-4407-8132-A4DB9F136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D9083E-3071-44DB-B9D1-BBC5E48BD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1E3AA-5772-4BCC-AC46-CE6DDE40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08B84B5-529B-4D8E-997D-2A5B0394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5EF31B-8694-46A7-8DA7-C608E3245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329548-1EA8-461E-98FA-7FBC13A87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38498C-8FAB-47A6-878C-8C09D5A0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BA73FF-B35F-4904-9442-CF673E219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8CC9CC-0D1B-4338-8B14-1D05ACAA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5D019-24C4-4517-B12A-648A743B1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47FDBA-8C05-41A2-9705-D952926F0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8F2A9A-7760-4317-9D04-D4C142765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A230C7-7775-4CA7-9ABE-D0B24475A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9B7E4-6619-4865-BD8E-2C99E8A16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DAC7E4-51F0-47BD-9F3B-BA1F35EA9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8858F-F823-4A7E-874C-E0F35BE96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0E2AAC-E9E4-4448-B697-5C40B62C6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9E580C-6F40-4DC5-802E-CCEE03841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1FDCF56-D789-4CD1-9A8B-114E7D9CE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2E75ABD-8ED3-4FF9-9A5A-B10D5EC9A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B1E795-385E-4913-95D4-9073EE704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AFA609-4126-4064-8CA7-E890A487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0FE29CF-6FD3-4EE9-841F-19FF2A4D6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063347-D8C0-4F7D-80A9-0094D55A7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15C3A-1F22-4251-B6FE-07C307546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50F2A8A-4354-4E41-9B3A-0107BC9FF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C824B-D923-4183-A765-9CA81C1F5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76AB0A-F59E-4BE1-8F70-00427B389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38E3E-FEC3-4558-A278-41FF98D1A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4C5F3-3C98-405D-99FE-C8DD92682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887A6DD-908E-4296-9ECB-DE405CF5F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287FA8-2658-4E13-83DF-E46BBC835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000BB4-F181-4CBF-BADA-CC8FEF77A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807D60-234E-4C56-988E-2B247D747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47FA6D-3C02-40F7-A0DE-2A9A47DB5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BBA7-2AC4-4E5B-A421-10BA86061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B2A20-FE33-4F65-A6FD-2FE187C4F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3CB750-644C-4BD8-89C3-624217139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FA20A1-7441-4358-B652-CEB04762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F8FA1E-0548-4BB3-BEE3-C5A9848D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D9FC229-F590-4B66-9EE0-AA1E9C341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6C6FBB-2E18-4866-852F-BAC929333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EE8983-049B-4DFC-BF53-9229F45D9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EB7CE1-D1E9-48D2-B015-BDD5B765B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3CB8D6-5EB9-4234-8823-6EB4693DE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E7D7F3-69E2-41D4-B782-46923DE5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1FD34-6FDE-4D97-9AF8-F74103C4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BD9A-8CD4-4916-BAE9-327A31DC4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C31AD35-DC89-4F4A-B34F-C13A01BA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CB5B94-B35E-495A-8FB0-93DE34CD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696BC3-5CC7-42FC-AF70-79289E113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DB277A2-2BDD-48DE-81B1-A68AF8D3B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56165-C8E4-4A6D-90F5-54500873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BFA1BB8-25B5-4F2E-A65B-BBA79D08FB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5C3B70-3D2D-4017-AD61-3D053348D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CB56F6-5E1C-4AAB-897A-35345BEEE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E7662C5-A5DC-4E8E-872C-E95BF144F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12F99D-1EE0-4F9F-94DA-E00E458E3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75E51-2D07-4E4D-81B3-FDD82AC83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4F97A2-72D6-40B8-8C7B-949C31AA54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4BE953-407B-4E91-9D66-03E9B81BD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D6B418-4D91-4F97-8D70-62ED908E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CD72E-4BBD-4BBE-9341-BCF8CFA27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D67F68-86CC-4B46-AECA-D05B9D144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9DD9D0-8CF6-4D67-91EB-443987DDD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9D5345-F40A-487B-ABD6-D46BA705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285E217-7FF3-4DC6-8C30-6502E7202A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88939A-7278-476D-8A26-FA2B80A62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274F58-F519-430D-BED0-3E331A0E9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1480-CC10-4BE4-AF79-69AC9B47A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992C8D-ABF1-424C-A974-C126E81D9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E4FC600-C96F-403E-B23D-B7FA6D90C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DD90D0-47E2-476F-B109-7457A063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468B09-A241-49AF-B63E-2E50EDDB7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3DEE50-4D15-44A9-A01A-D013AD9B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E5A3CC-6483-4A08-B52F-77A43658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2068CF-D05A-4301-8CD9-AA186FCB7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B7BB2E8-4C7D-4204-9B8E-ED266BF4D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9639D0-5DDA-4402-8802-8D2CC87FC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061C2E-F9AB-49E7-9022-257511CC7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189BA-DD3A-4E61-AB06-EBBFAB52B1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5424B1-9D85-4A3E-89CB-00E8E2CBF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537319-31DE-441B-AFCC-3F0C8C96B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3D3CE4-17C2-486A-A172-C5815EEB5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96B615-6628-404D-AEF6-E4CE514F6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BDA899-83F6-4022-A1E9-F1960282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DA6AC3-6DEE-4266-BE58-F4581482B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08039E-C518-4FAF-AAE3-18D8FCDD0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62BE1-C943-4295-9D10-B812AD324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B94EB4-4CCA-4847-981D-D4641308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0387FC0-A9BE-4D61-8073-393846BC4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3EEF05-B546-4F45-96DF-F388DB5E17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06D3B6-1E8E-4D00-AD68-842659A0A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4DAEB9-980D-41DB-BBD0-0C3FD5D4C3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7BE69B-8468-4131-A38F-4E3A88BF3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116886-DC0E-497C-9980-92539E513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4B2E2-6424-41D3-B582-35ADB8871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872274-E37A-40D3-8837-EA01627E4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8AFEDE-B74E-479F-946A-E11C8D6F8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FAD0-A315-479E-A95D-0050E445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5E9B5-BDF4-4ACA-91D9-C68E3B1D1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62AE6-4F04-45D3-90C2-DC137EF5B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1DEE2-366D-4476-9C4F-270F6C661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8B725-A130-47F9-95C1-9628E582E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1B636-2810-493F-8B95-3D6F34942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CDDB96-9A0D-4BC1-8DBF-599585280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FE129-7997-4BC3-BE5C-6E025296D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C1D4-E940-4FF6-B8A4-0BC8319D7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84D26F-AF97-43FD-9859-42656306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CAC941-9737-4906-9AC8-634CCA968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9DC1-738E-4F32-8CDA-BA036D462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E12D79-9EE3-471C-A6DC-00EA12CA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B75716-50FE-4C6E-9D47-12999FDAC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18D7A-F2D0-427F-9611-F47E8DB94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11A370-7B53-4647-923F-BECC50EA4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3B353D-FE04-4FF7-91B5-E83EC32E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6116A-B47F-4FAE-9D7C-16B205E08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5993C-71A2-4735-A2AC-A42113101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CEC3EE-8AAF-4258-B02C-2737910D3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0065C-0123-4FA4-860C-2B587D286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DF557-2503-4BF1-B8DF-A8649FAA9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7FE8-FA20-40EB-A81A-1A0E6D9BD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341765-FD9A-46B4-96A4-37662A0C8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07935-6C97-4CD5-B32D-077B925A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4363E-1EF9-4819-BA7C-A547C8BE4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FD74EE-441A-4332-B258-44155434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F6021D-2C9C-42FD-B720-4BA87D228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EE3FB3-6B46-40E2-9025-FB45446F3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D3F531-72B1-44B2-9423-02623DEA6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A506B-5A25-415C-82DF-411786297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5E4B24-F070-4511-AD6F-E956F0816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07151-DB42-479C-B473-97824DFB1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F59B-54DC-4EB1-86D3-BC4A212DF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BD47CE-33C6-41AC-8F9C-5EFEFB7B6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FEA439-690E-4B9B-A944-2A5B481BF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D96764-89E3-4A57-850D-14008830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36FE7A-5B04-4EE3-AAC6-31E02DB9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4A5717-9E10-4D2E-8036-DC01BBE8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519ECB-64E3-4AAC-9B06-A37A13C5E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9169EC-2035-48FE-B654-C0CDC153A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C29AE2-28CA-44A9-A713-03C37104C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61B78B-CE2B-4C20-A130-9F378548C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44ED25-5F11-4092-AD2E-F90F29BA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A372-B50D-47C1-A04B-5798B819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75F916-B735-4B8D-95D1-E3ED0F9D4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3232A4-9F9C-4BC7-8200-6194941A5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F3507D-1809-4777-BB53-148C7E212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0EDFCF-1122-4042-A7DA-717E0DB6B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51616E-0373-40DA-9082-C368E8CD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368E8B-8583-4D01-BE30-7E21EC181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AF3BD4-3A34-4E9A-BF5C-EE0EBAEDF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49235-0EFA-4D88-B296-23CE9E1F6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CFEF4F-375C-43EA-B4D6-D656BE41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F83A3-4E3C-4943-830C-A61B7CC68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5E5-7F6D-4AD4-98C9-222412DF0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1C6EE4-02FF-4AD3-AEDC-5B021D6C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C84C03-A27C-4380-81E0-831D0319D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56B4A-3894-433F-85F8-D530C8F3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9D5B0C-E8E0-4339-ADDD-9A38BD95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E90786-CD25-428E-8125-5F00B9469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F1A870-DAFF-4124-8EA8-F417E713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A746B-A69C-4579-9FEF-82620C576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5F6B6E-59D9-4AD0-B957-04823B4DD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6B7FB8-9212-414F-BA72-417F0D6E4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2DBB05-D30C-4A36-B05B-FFDB619CA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BD8-010B-4B8D-828D-A34AEC2DC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9F0F1-B858-4D52-A9A0-3B15FA605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1B6567-611B-4F9D-B902-8B0EC5672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91EF41-71CA-4B4D-A1B8-8AA3F89B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CEE3FE-E15C-4112-8A2A-0390658F9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64E05-2D00-4145-A1E6-5BBDD6BDE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FE0E44-45AF-4D2D-8C42-97DF36273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721289-06F5-413D-85E3-6D9C8F7AB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D3516-C362-40AB-B7AC-8E9C205FA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C99BFF-0713-4391-A997-ACA6B425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78653E-2796-473F-B8CB-37EDA561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2C8FA-86D3-4A56-B3AD-4CAA69A8BDB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FD587-DAEC-4A28-BF46-0CD953B97C1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449E3-F2AC-4197-AFB7-EE6A505DAC0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F19E0-B9B2-4DB4-A8CE-AE1CFEDCD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8BCA3-260A-4867-AAEB-E2F7BB8DE8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F27A5-2050-4FB1-B406-465D3582DB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D71D-A337-4394-8700-D15466C862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9221-53A5-4CD3-912F-0617613C2E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84948-51A4-4092-AFBB-D419F6233A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144F3-B311-475F-BF26-B19A3B0B3F9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CC837-3281-4241-9F4D-C169A33AD0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16CD-B502-4A92-A3C4-16C764BC11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CFC4-5968-4E0E-8AC2-F7AB72E269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C738B-1DD1-4ED3-A120-D794FB03310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BB8F1-535D-4C7C-9FF4-9C0FE875EA9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D0AC4-8B7F-4626-888D-1659AD0224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D44C-3FFB-4655-BB41-B61382B8EC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40C50-9362-4EBA-9378-B475A62C89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8FA04-E1CD-4719-8176-3104C09501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ED0A5-6172-47F7-BF34-58A4C560D8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12687-A4DB-4E19-9554-4ED2AE6F33B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E935-97D0-480F-9CE1-03E8B902DA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C9F25-1157-4593-9FE6-045E1BF969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98DE3-883F-41A8-B690-AE342CF9D1E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D3806-17FD-4D85-AA16-2BB9EB110D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6E851-D641-4ED4-953D-A68D3E91613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D51D-B6CD-4933-8B5F-4964E7953E3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A70D-24C4-4DCE-9083-F5D8128ECDA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2DBE3-76E2-4657-A977-1F402E2FC4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345E-930C-4D44-9E15-6C651769C3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5095A-22B9-4EE4-BC84-D4F360E188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662F-CF5A-4E59-95F9-3201C6603B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26F8-A4A9-456C-BCFE-D599E1D7710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FC1CD-3275-4170-ADDF-3CE897DB5D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F1F64-AB70-4AEE-ACC1-64EF4386C5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5862-1A60-4BB8-9437-F53C1A7065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9CF07-1BD8-46DC-A1D5-81E89290C2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A711C-31F0-4276-91FD-FC09FAD249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80D70-C9AE-42CE-B9E7-9C483E09BC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040EB-68E2-45E0-AFE7-54937D4B36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000160" y="3105000"/>
            <a:ext cx="514368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图片 69633" descr=""/>
          <p:cNvPicPr/>
          <p:nvPr/>
        </p:nvPicPr>
        <p:blipFill>
          <a:blip r:embed="rId1"/>
          <a:stretch/>
        </p:blipFill>
        <p:spPr>
          <a:xfrm>
            <a:off x="500040" y="549360"/>
            <a:ext cx="8143920" cy="62197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2"/>
          <a:stretch/>
        </p:blipFill>
        <p:spPr>
          <a:xfrm>
            <a:off x="826920" y="1111320"/>
            <a:ext cx="3889440" cy="934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3"/>
          <a:stretch/>
        </p:blipFill>
        <p:spPr>
          <a:xfrm>
            <a:off x="755640" y="2075040"/>
            <a:ext cx="7488360" cy="93492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4"/>
          <a:stretch/>
        </p:blipFill>
        <p:spPr>
          <a:xfrm>
            <a:off x="611280" y="4811760"/>
            <a:ext cx="7488000" cy="9349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5"/>
          <a:stretch/>
        </p:blipFill>
        <p:spPr>
          <a:xfrm>
            <a:off x="1042920" y="5848200"/>
            <a:ext cx="7488360" cy="9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5200" y="1733400"/>
            <a:ext cx="8553600" cy="339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557280" y="789120"/>
            <a:ext cx="8029440" cy="59529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1028880" y="3141720"/>
            <a:ext cx="649080" cy="934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649080" cy="93492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4500720" y="3068640"/>
            <a:ext cx="649080" cy="934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4716360" y="4653000"/>
            <a:ext cx="649440" cy="93492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6"/>
          <a:stretch/>
        </p:blipFill>
        <p:spPr>
          <a:xfrm>
            <a:off x="6948360" y="5373720"/>
            <a:ext cx="517680" cy="4316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7"/>
          <a:stretch/>
        </p:blipFill>
        <p:spPr>
          <a:xfrm>
            <a:off x="7020000" y="4869000"/>
            <a:ext cx="517320" cy="43164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8"/>
          <a:stretch/>
        </p:blipFill>
        <p:spPr>
          <a:xfrm>
            <a:off x="6948360" y="6394320"/>
            <a:ext cx="517680" cy="43200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9"/>
          <a:stretch/>
        </p:blipFill>
        <p:spPr>
          <a:xfrm>
            <a:off x="7020000" y="5889600"/>
            <a:ext cx="517320" cy="4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2" name="图片 58373" descr=""/>
          <p:cNvPicPr/>
          <p:nvPr/>
        </p:nvPicPr>
        <p:blipFill>
          <a:blip r:embed="rId1"/>
          <a:stretch/>
        </p:blipFill>
        <p:spPr>
          <a:xfrm>
            <a:off x="614520" y="1233360"/>
            <a:ext cx="7914960" cy="439128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2"/>
          <a:stretch/>
        </p:blipFill>
        <p:spPr>
          <a:xfrm>
            <a:off x="6657840" y="1542960"/>
            <a:ext cx="435240" cy="73368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3"/>
          <a:stretch/>
        </p:blipFill>
        <p:spPr>
          <a:xfrm>
            <a:off x="7667640" y="2089080"/>
            <a:ext cx="434880" cy="73332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4"/>
          <a:stretch/>
        </p:blipFill>
        <p:spPr>
          <a:xfrm>
            <a:off x="5767560" y="2708280"/>
            <a:ext cx="434880" cy="7333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5"/>
          <a:stretch/>
        </p:blipFill>
        <p:spPr>
          <a:xfrm>
            <a:off x="5867280" y="3573360"/>
            <a:ext cx="1441440" cy="93528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6"/>
          <a:stretch/>
        </p:blipFill>
        <p:spPr>
          <a:xfrm>
            <a:off x="1547640" y="4537080"/>
            <a:ext cx="144180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图片 57352" descr=""/>
          <p:cNvPicPr/>
          <p:nvPr/>
        </p:nvPicPr>
        <p:blipFill>
          <a:blip r:embed="rId1"/>
          <a:stretch/>
        </p:blipFill>
        <p:spPr>
          <a:xfrm>
            <a:off x="309600" y="790560"/>
            <a:ext cx="8524800" cy="527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2"/>
          <a:stretch/>
        </p:blipFill>
        <p:spPr>
          <a:xfrm>
            <a:off x="755640" y="3170160"/>
            <a:ext cx="5761080" cy="89208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3"/>
          <a:stretch/>
        </p:blipFill>
        <p:spPr>
          <a:xfrm>
            <a:off x="611280" y="4149720"/>
            <a:ext cx="5761080" cy="89208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4"/>
          <a:stretch/>
        </p:blipFill>
        <p:spPr>
          <a:xfrm>
            <a:off x="684360" y="5143680"/>
            <a:ext cx="8135640" cy="89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2" name="图片 56324" descr=""/>
          <p:cNvPicPr/>
          <p:nvPr/>
        </p:nvPicPr>
        <p:blipFill>
          <a:blip r:embed="rId1"/>
          <a:stretch/>
        </p:blipFill>
        <p:spPr>
          <a:xfrm>
            <a:off x="290520" y="947880"/>
            <a:ext cx="8562960" cy="496224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"/>
          <a:stretch/>
        </p:blipFill>
        <p:spPr>
          <a:xfrm>
            <a:off x="755640" y="3919680"/>
            <a:ext cx="5832360" cy="86328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3"/>
          <a:stretch/>
        </p:blipFill>
        <p:spPr>
          <a:xfrm>
            <a:off x="971640" y="4811760"/>
            <a:ext cx="6769080" cy="50328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4"/>
          <a:stretch/>
        </p:blipFill>
        <p:spPr>
          <a:xfrm>
            <a:off x="900000" y="5343480"/>
            <a:ext cx="67690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6" name="图片 55300" descr=""/>
          <p:cNvPicPr/>
          <p:nvPr/>
        </p:nvPicPr>
        <p:blipFill>
          <a:blip r:embed="rId1"/>
          <a:stretch/>
        </p:blipFill>
        <p:spPr>
          <a:xfrm>
            <a:off x="290520" y="766800"/>
            <a:ext cx="8562960" cy="5324400"/>
          </a:xfrm>
          <a:prstGeom prst="rect">
            <a:avLst/>
          </a:prstGeom>
          <a:ln w="0">
            <a:noFill/>
          </a:ln>
        </p:spPr>
      </p:pic>
      <p:pic>
        <p:nvPicPr>
          <p:cNvPr id="947" name="图片 55301" descr=""/>
          <p:cNvPicPr/>
          <p:nvPr/>
        </p:nvPicPr>
        <p:blipFill>
          <a:blip r:embed="rId2"/>
          <a:stretch/>
        </p:blipFill>
        <p:spPr>
          <a:xfrm>
            <a:off x="941400" y="6246720"/>
            <a:ext cx="2838600" cy="4953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3"/>
          <a:stretch/>
        </p:blipFill>
        <p:spPr>
          <a:xfrm>
            <a:off x="826920" y="2579760"/>
            <a:ext cx="8137800" cy="5032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4"/>
          <a:stretch/>
        </p:blipFill>
        <p:spPr>
          <a:xfrm>
            <a:off x="684360" y="3170160"/>
            <a:ext cx="8137440" cy="90648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5"/>
          <a:stretch/>
        </p:blipFill>
        <p:spPr>
          <a:xfrm>
            <a:off x="684360" y="4164120"/>
            <a:ext cx="8137440" cy="90648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6"/>
          <a:stretch/>
        </p:blipFill>
        <p:spPr>
          <a:xfrm>
            <a:off x="684360" y="5172120"/>
            <a:ext cx="8137440" cy="90648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7"/>
          <a:stretch/>
        </p:blipFill>
        <p:spPr>
          <a:xfrm>
            <a:off x="250920" y="6237360"/>
            <a:ext cx="813744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3" name="图片 54276" descr=""/>
          <p:cNvPicPr/>
          <p:nvPr/>
        </p:nvPicPr>
        <p:blipFill>
          <a:blip r:embed="rId1"/>
          <a:stretch/>
        </p:blipFill>
        <p:spPr>
          <a:xfrm>
            <a:off x="233280" y="852480"/>
            <a:ext cx="8677440" cy="560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52231" descr=""/>
          <p:cNvPicPr/>
          <p:nvPr/>
        </p:nvPicPr>
        <p:blipFill>
          <a:blip r:embed="rId1"/>
          <a:stretch/>
        </p:blipFill>
        <p:spPr>
          <a:xfrm>
            <a:off x="833400" y="1895400"/>
            <a:ext cx="7477200" cy="30672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900000" y="1816200"/>
            <a:ext cx="7704360" cy="103644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684360" y="2852640"/>
            <a:ext cx="7704000" cy="10368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611280" y="3933720"/>
            <a:ext cx="7704000" cy="10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2:35:16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